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4.png" ContentType="image/png"/>
  <Override PartName="/ppt/media/image22.png" ContentType="image/png"/>
  <Override PartName="/ppt/media/image5.jpeg" ContentType="image/jpeg"/>
  <Override PartName="/ppt/media/image29.png" ContentType="image/png"/>
  <Override PartName="/ppt/media/image6.png" ContentType="image/png"/>
  <Override PartName="/ppt/media/image3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4.jpeg" ContentType="image/jpeg"/>
  <Override PartName="/ppt/media/image9.png" ContentType="image/png"/>
  <Override PartName="/ppt/media/image11.png" ContentType="image/png"/>
  <Override PartName="/ppt/media/image23.png" ContentType="image/png"/>
  <Override PartName="/ppt/media/image13.jpeg" ContentType="image/jpeg"/>
  <Override PartName="/ppt/media/image30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15.png" ContentType="image/pn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4575-1DF3-4F9D-A724-E963814D6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E777-57C0-4ACE-AC57-B64FAB8F2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7F32-DC88-4DDB-AC6B-B5DB4E3AA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DBD1-BF87-4FCB-A851-9C8F32FE9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6112-8D41-47EC-B116-1B12FDD67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B33D-1BAA-49F8-AED4-64EA1A15D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5F21-DFF5-4F17-8B60-B4CEAE252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4BB4-94FB-4B9F-B08D-F320A9CC5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FBF9-0C27-4112-BEBC-6FE319E39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EC23-80AC-41FB-8BC7-BFBA142F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12D3-0ED6-437B-B56F-7F28AE3C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87B0-34AE-45BD-B72C-EF803E82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DFA6D-AE3C-4955-B751-7FD5448B8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2280" y="2728440"/>
            <a:ext cx="88394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547b"/>
                </a:solidFill>
                <a:latin typeface="Verdana"/>
              </a:rPr>
              <a:t>Комплексный анализ эффективности маркетинговых мероприятий на са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861080" y="4608360"/>
            <a:ext cx="382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71640" y="1448280"/>
            <a:ext cx="62546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969696"/>
                </a:solidFill>
                <a:latin typeface="Verdana"/>
              </a:rPr>
              <a:t>Управление аудиторией и реклама в Интернет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22680" y="4603680"/>
            <a:ext cx="398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69696"/>
                </a:solidFill>
                <a:latin typeface="Verdana"/>
              </a:rPr>
              <a:t>Сергей Рыж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69696"/>
                </a:solidFill>
                <a:latin typeface="Verdana"/>
              </a:rPr>
              <a:t>директор компании «Битрикс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97000" y="1314360"/>
            <a:ext cx="961920" cy="9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080" y="1166760"/>
            <a:ext cx="90439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c7ab2"/>
                </a:solidFill>
                <a:latin typeface="Verdana"/>
              </a:rPr>
              <a:t>Глобальный идентификатор событ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2336760"/>
            <a:ext cx="45720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переходе на сайт регистратора в ссылке указывается специальный параметр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VENT_GID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мер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KRAFT_SM.MTE2OTc1LjM0MjcuUlUuOS5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этом числе закодированы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D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етител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екламная кампания, по которой он пришел на сайт, и другие данны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начение вручную фиксируется менеджерами в системе статистики сайта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для анализа финансовой эффективности рекламных кампаний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662360" y="2124000"/>
            <a:ext cx="4021200" cy="27608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977160" y="4522680"/>
            <a:ext cx="1755720" cy="451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80080" y="5145120"/>
            <a:ext cx="385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Купон на скидку в магазине компании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Kraf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0080" y="1168200"/>
            <a:ext cx="9043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c7ab2"/>
                </a:solidFill>
                <a:latin typeface="Verdana"/>
              </a:rPr>
              <a:t>Регистрация собы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61080" y="4608360"/>
            <a:ext cx="382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57360" y="5138640"/>
            <a:ext cx="815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 основе полученных данных система определяет, в результате какой рекламной кампании получена прибыль, и распределяет сведения по потокам посетителей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ля вычисления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I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814320" y="2109960"/>
            <a:ext cx="7515360" cy="2638080"/>
          </a:xfrm>
          <a:prstGeom prst="rect">
            <a:avLst/>
          </a:prstGeom>
          <a:ln w="3240">
            <a:solidFill>
              <a:srgbClr val="dddddd"/>
            </a:solidFill>
            <a:miter/>
          </a:ln>
        </p:spPr>
      </p:pic>
      <p:sp>
        <p:nvSpPr>
          <p:cNvPr id="138" name=""/>
          <p:cNvSpPr/>
          <p:nvPr/>
        </p:nvSpPr>
        <p:spPr>
          <a:xfrm>
            <a:off x="2381400" y="4836960"/>
            <a:ext cx="4093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Ручной ввод событий (покупка в магазине) на сай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0080" y="1166760"/>
            <a:ext cx="90439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c7ab2"/>
                </a:solidFill>
                <a:latin typeface="Verdana"/>
              </a:rPr>
              <a:t>Дополнительные критерии анали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235080" y="2209320"/>
            <a:ext cx="48765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полнительно система статистики анализиру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щую посещаемость сайт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еографию по странам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дексацию сайта поисковик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сылающиеся сай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исковые фраз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ессии и хи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сторию посетител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P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посетител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етителей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nline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топ-лис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61080" y="4608360"/>
            <a:ext cx="382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876920" y="2438280"/>
            <a:ext cx="4005000" cy="2799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16400" y="5181480"/>
            <a:ext cx="3364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График индексации сайта поисковиком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Goog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0080" y="1165320"/>
            <a:ext cx="90439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c7ab2"/>
                </a:solidFill>
                <a:latin typeface="Verdana"/>
              </a:rPr>
              <a:t>Примеры: </a:t>
            </a:r>
            <a:r>
              <a:rPr b="0" lang="en-US" sz="2800" spc="-1" strike="noStrike">
                <a:solidFill>
                  <a:srgbClr val="3c7ab2"/>
                </a:solidFill>
                <a:latin typeface="Verdana"/>
              </a:rPr>
              <a:t>YandexDi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52280" y="220932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ика позволяет определить наиболее эффективные фразы и слова, используемые в рекламе через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andexDirect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ерез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оискови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ерез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нешние сайты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.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мер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ффективность инструмента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1=yd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Verdana"/>
              </a:rPr>
              <a:t>r2=cms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1=yd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Verdana"/>
              </a:rPr>
              <a:t>r2=sm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мер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ффективность способа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Verdana"/>
              </a:rPr>
              <a:t>r1=yandex_dir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2=c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Verdana"/>
              </a:rPr>
              <a:t>r1=y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2=c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483080" y="55627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bbedd"/>
                </a:solidFill>
                <a:latin typeface="Arial Black"/>
              </a:rPr>
              <a:t>Откажитесь от неэффективных с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835520" y="2585880"/>
            <a:ext cx="3963960" cy="2740320"/>
          </a:xfrm>
          <a:prstGeom prst="rect">
            <a:avLst/>
          </a:prstGeom>
          <a:ln w="3240">
            <a:solidFill>
              <a:srgbClr val="ddddd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01600" y="1166760"/>
            <a:ext cx="870264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c7ab2"/>
                </a:solidFill>
                <a:latin typeface="Verdana"/>
              </a:rPr>
              <a:t>Примеры: Анализ рекламы в </a:t>
            </a:r>
            <a:r>
              <a:rPr b="0" lang="en-US" sz="2800" spc="-1" strike="noStrike">
                <a:solidFill>
                  <a:srgbClr val="3c7ab2"/>
                </a:solidFill>
                <a:latin typeface="Verdana"/>
              </a:rPr>
              <a:t>YandexDi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861080" y="4608360"/>
            <a:ext cx="382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82760" y="2355840"/>
            <a:ext cx="3865320" cy="1617840"/>
          </a:xfrm>
          <a:prstGeom prst="rect">
            <a:avLst/>
          </a:prstGeom>
          <a:ln w="3240">
            <a:solidFill>
              <a:srgbClr val="9bbedd"/>
            </a:solidFill>
            <a:miter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5562720" y="2351160"/>
            <a:ext cx="2361960" cy="16444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5560920" y="4383000"/>
            <a:ext cx="2363760" cy="164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469800" y="4394160"/>
            <a:ext cx="3886200" cy="1623960"/>
          </a:xfrm>
          <a:prstGeom prst="rect">
            <a:avLst/>
          </a:prstGeom>
          <a:ln w="3240">
            <a:solidFill>
              <a:srgbClr val="9bbedd"/>
            </a:solidFill>
            <a:miter/>
          </a:ln>
        </p:spPr>
      </p:pic>
      <p:sp>
        <p:nvSpPr>
          <p:cNvPr id="154" name=""/>
          <p:cNvSpPr/>
          <p:nvPr/>
        </p:nvSpPr>
        <p:spPr>
          <a:xfrm>
            <a:off x="756000" y="3932280"/>
            <a:ext cx="320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Эффективная реклама (положительный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ROI</a:t>
            </a: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66800" y="5969160"/>
            <a:ext cx="331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Неэффективная реклама (отрицательный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ROI</a:t>
            </a: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717520" y="3936960"/>
            <a:ext cx="209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График посещаемости по Р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717520" y="5969160"/>
            <a:ext cx="209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График посещаемости по Р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38560" y="3619440"/>
            <a:ext cx="457200" cy="3049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51160" y="5638680"/>
            <a:ext cx="457200" cy="3049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0080" y="1181160"/>
            <a:ext cx="90439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c7ab2"/>
                </a:solidFill>
                <a:latin typeface="Verdana"/>
              </a:rPr>
              <a:t>Примеры: Баннерная рекл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228600" y="2743200"/>
            <a:ext cx="5486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еред проведением масштабной рекламной кампании рекомендуется оценить результаты пробной рекламной кампании и определить наиболее эффективны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екламные площад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струменты (размер и расположение баннера на странице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пособы рекламы (контент баннер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61080" y="4608360"/>
            <a:ext cx="382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53120" y="2001960"/>
            <a:ext cx="412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547b"/>
                </a:solidFill>
                <a:latin typeface="Verdana"/>
              </a:rPr>
              <a:t>Методика пробных рекламных кампа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609480" y="4419720"/>
            <a:ext cx="2667240" cy="18399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5778360" y="2565360"/>
            <a:ext cx="3276720" cy="32259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141560" y="4643280"/>
            <a:ext cx="2130120" cy="61308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5837400"/>
            <a:ext cx="533520" cy="4284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0080" y="1193760"/>
            <a:ext cx="90439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c7ab2"/>
                </a:solidFill>
                <a:latin typeface="Verdana"/>
              </a:rPr>
              <a:t>Новости и пресс-рели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90080" y="2666520"/>
            <a:ext cx="449604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ффективность каналов распространения новостей и пресс-релизов определяется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 трем критериям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араметры в ссылке (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1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2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сылающиеся сай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Уникальный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U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861080" y="4608360"/>
            <a:ext cx="382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30120" y="521964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bbedd"/>
                </a:solidFill>
                <a:latin typeface="Arial Black"/>
              </a:rPr>
              <a:t>Поиск эффективных площад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699080" y="2463840"/>
            <a:ext cx="419076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4457880" y="2259000"/>
            <a:ext cx="4479840" cy="34290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0080" y="1168200"/>
            <a:ext cx="9043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c7ab2"/>
                </a:solidFill>
                <a:latin typeface="Verdana"/>
              </a:rPr>
              <a:t>Почтовые рассыл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52280" y="2079360"/>
            <a:ext cx="42674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Картинка в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tml-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текст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/img/graf.gif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ключает статистику и отдает файл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/images/graf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озможно начало рекламной кампании по открытию письма или создание события в рамках текущей рекламной кампании (открытие письм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пециальные ссылки (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1 r2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традиционный вариант выделения рекламной кампа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61080" y="4608360"/>
            <a:ext cx="382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789520" y="4683240"/>
            <a:ext cx="989280" cy="765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0080" y="1295280"/>
            <a:ext cx="90439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c7ab2"/>
                </a:solidFill>
                <a:latin typeface="Verdana"/>
              </a:rPr>
              <a:t>Форма регистрации партн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51920" y="2654280"/>
            <a:ext cx="39625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ля оценки рекламных кампаний по привлечению партнеров регистрация партнера на сайте учитывается как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обыти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861080" y="4608360"/>
            <a:ext cx="382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52280" y="3416400"/>
            <a:ext cx="3810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отчете о рекламной кампании указывается, сколько партнеров было привлечено благодаря этой реклам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140360" y="2235240"/>
            <a:ext cx="4647960" cy="38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84880" y="2654280"/>
            <a:ext cx="3504960" cy="2689200"/>
          </a:xfrm>
          <a:prstGeom prst="rect">
            <a:avLst/>
          </a:prstGeom>
          <a:ln w="3240">
            <a:solidFill>
              <a:srgbClr val="9bbedd"/>
            </a:solidFill>
            <a:miter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0080" y="1295280"/>
            <a:ext cx="90439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c7ab2"/>
                </a:solidFill>
                <a:latin typeface="Verdana"/>
              </a:rPr>
              <a:t>Внутренняя реклама на сай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51920" y="2692440"/>
            <a:ext cx="4876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ля показа избранного контента определенной аудитории используются специальные параметры управления внутренней рекламой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екламная камп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тран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делы и страницы сайт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етители (первый раз на сайте или вернулся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сто размещения баннера на сайт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ериод показа с настройкой по часам и дням недел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личество кл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щее число показов баннер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исло показов для одного посетител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исло посетителей, которым будет показан банне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61080" y="4608360"/>
            <a:ext cx="382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915080" y="552456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bbedd"/>
                </a:solidFill>
                <a:latin typeface="Arial Black"/>
              </a:rPr>
              <a:t>Эффективная работа с аудитори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258640" y="2057400"/>
            <a:ext cx="477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547b"/>
                </a:solidFill>
                <a:latin typeface="Verdana"/>
              </a:rPr>
              <a:t>как инструмент работы с потоками посетите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5960" y="3225960"/>
            <a:ext cx="1143000" cy="12952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2209680"/>
            <a:ext cx="8381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3c7ab2"/>
                </a:solidFill>
                <a:latin typeface="Verdana"/>
              </a:rPr>
              <a:t>«Маркетологов придумали для того, чтобы синоптики на их фоне не выглядели так бледн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9547b"/>
                </a:solidFill>
                <a:latin typeface="Verdana"/>
              </a:rPr>
              <a:t>Профессиональная шутка маркетолог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c7ab2"/>
                </a:solidFill>
                <a:latin typeface="Verdana"/>
              </a:rPr>
              <a:t>Событийный анализ придуман для того, чтобы маркетологи не выглядели синопти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9547b"/>
                </a:solidFill>
                <a:latin typeface="Verdana"/>
              </a:rPr>
              <a:t>«Битрикс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0080" y="1295280"/>
            <a:ext cx="90439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c7ab2"/>
                </a:solidFill>
                <a:latin typeface="Verdana"/>
              </a:rPr>
              <a:t>Специальные маркетинговые про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51920" y="2514600"/>
            <a:ext cx="4800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еализация договоренности с рекламными площадкам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мещаем рекламу на площад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елаем ссылку с параметрами рекламной кампа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спользуя внутреннюю рекламу с таргетингом по данной рекламной кампании, формируем на сайте уникальное торговое предлож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54864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bbedd"/>
                </a:solidFill>
                <a:latin typeface="Arial Black"/>
              </a:rPr>
              <a:t>100% эффективности внутренней рекла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33520" y="4343400"/>
            <a:ext cx="3047760" cy="1863720"/>
          </a:xfrm>
          <a:prstGeom prst="rect">
            <a:avLst/>
          </a:prstGeom>
          <a:ln w="3240">
            <a:solidFill>
              <a:srgbClr val="9bbedd"/>
            </a:solidFill>
            <a:miter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5181480" y="2438280"/>
            <a:ext cx="3757680" cy="2800440"/>
          </a:xfrm>
          <a:prstGeom prst="rect">
            <a:avLst/>
          </a:prstGeom>
          <a:ln w="3240">
            <a:solidFill>
              <a:srgbClr val="d9d9d9"/>
            </a:solidFill>
            <a:miter/>
          </a:ln>
        </p:spPr>
      </p:pic>
      <p:sp>
        <p:nvSpPr>
          <p:cNvPr id="195" name=""/>
          <p:cNvSpPr/>
          <p:nvPr/>
        </p:nvSpPr>
        <p:spPr>
          <a:xfrm>
            <a:off x="380880" y="5486400"/>
            <a:ext cx="914400" cy="5302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867280" y="2819520"/>
            <a:ext cx="914400" cy="5302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0080" y="1295280"/>
            <a:ext cx="90439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c7ab2"/>
                </a:solidFill>
                <a:latin typeface="Verdana"/>
              </a:rPr>
              <a:t>Офлайновая и </a:t>
            </a:r>
            <a:r>
              <a:rPr b="0" lang="en-US" sz="2800" spc="-1" strike="noStrike">
                <a:solidFill>
                  <a:srgbClr val="3c7ab2"/>
                </a:solidFill>
                <a:latin typeface="Verdana"/>
              </a:rPr>
              <a:t>VIP-</a:t>
            </a:r>
            <a:r>
              <a:rPr b="0" lang="ru-RU" sz="2800" spc="-1" strike="noStrike">
                <a:solidFill>
                  <a:srgbClr val="3c7ab2"/>
                </a:solidFill>
                <a:latin typeface="Verdana"/>
              </a:rPr>
              <a:t>рекл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14480" y="2514240"/>
            <a:ext cx="43812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ценка эффективности офлайновой и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IP-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еклам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. Выделение рекламного потока по доменному имен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. Размещение в офлайн-изданиях рекламы с ссылкой на сайт: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2.company.com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либо спец доменное имя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www.promo.com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оздание рекламной кампании (в качестве критерия выделения потока используется доменное имя), возможен редирект на основной сайт компании с параметрами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1=promo.com&amp;r2=PCm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3. Анализ эффективности выделенной рекламной кампа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61080" y="4608360"/>
            <a:ext cx="382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800600" y="5105520"/>
            <a:ext cx="41148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bbedd"/>
                </a:solidFill>
                <a:latin typeface="Arial Black"/>
              </a:rPr>
              <a:t>Оцените затраты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bbedd"/>
                </a:solidFill>
                <a:latin typeface="Arial Black"/>
              </a:rPr>
              <a:t>офлайн-рекламу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4572000" y="2425680"/>
            <a:ext cx="443232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0080" y="1295280"/>
            <a:ext cx="90439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c7ab2"/>
                </a:solidFill>
                <a:latin typeface="Verdana"/>
              </a:rPr>
              <a:t>Контактная информ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861080" y="4608360"/>
            <a:ext cx="382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066680" y="2577960"/>
            <a:ext cx="320040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ts val="15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c7ab2"/>
                </a:solidFill>
                <a:latin typeface="Verdana"/>
              </a:rPr>
              <a:t>Моск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Телефо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95)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363-37-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очтовый адре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29626, Россия, г. Москв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л. Староалексеевская, д. 21, офис 4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64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946760" y="2592360"/>
            <a:ext cx="337032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ts val="15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c7ab2"/>
                </a:solidFill>
                <a:latin typeface="Verdana"/>
              </a:rPr>
              <a:t>Калинингра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Телефо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40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2)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51-05-6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очтовый адре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36000, Россия, г. Калининград, Московский проспект, 26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187280" y="4927680"/>
            <a:ext cx="6850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-mail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отдела продаж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3c7ab2"/>
                </a:solidFill>
                <a:latin typeface="Verdana"/>
              </a:rPr>
              <a:t>sales@bitrixsoft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Адрес сайта: </a:t>
            </a:r>
            <a:r>
              <a:rPr b="1" lang="en-US" sz="1400" spc="-1" strike="noStrike">
                <a:solidFill>
                  <a:srgbClr val="3c7ab2"/>
                </a:solidFill>
                <a:latin typeface="Verdana"/>
              </a:rPr>
              <a:t>http://www.bitrixsoft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8240" y="1168200"/>
            <a:ext cx="8881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c7ab2"/>
                </a:solidFill>
                <a:latin typeface="Verdana"/>
              </a:rPr>
              <a:t>Событийный анал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5040" y="2302560"/>
            <a:ext cx="76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Сегментация аудитории на пото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4480" y="1765440"/>
            <a:ext cx="894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c7cb6"/>
                </a:solidFill>
                <a:latin typeface="Verdana"/>
              </a:rPr>
              <a:t>Основа для оценки эффективности рекламных камп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41640" y="599436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bbedd"/>
                </a:solidFill>
                <a:latin typeface="Arial Black"/>
              </a:rPr>
              <a:t>Как за цифрами увидеть событи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71520" y="4656240"/>
            <a:ext cx="1042920" cy="504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081760" y="4743360"/>
            <a:ext cx="718920" cy="384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4997520" y="3475080"/>
            <a:ext cx="517320" cy="5335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358920" y="3554280"/>
            <a:ext cx="1272960" cy="327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62960" y="3102120"/>
            <a:ext cx="33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16493"/>
                </a:solidFill>
                <a:latin typeface="Verdana"/>
              </a:rPr>
              <a:t>Переходы по баннерной реклам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98600" y="3094200"/>
            <a:ext cx="183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16493"/>
                </a:solidFill>
                <a:latin typeface="Verdana"/>
              </a:rPr>
              <a:t>Переходы с сай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46360" y="3513240"/>
            <a:ext cx="2590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referer1=c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referer2=topban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4335480"/>
            <a:ext cx="304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16493"/>
                </a:solidFill>
                <a:latin typeface="Verdana"/>
              </a:rPr>
              <a:t>Переходы с поисковых сист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23160" y="4856040"/>
            <a:ext cx="14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yandex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83120" y="4335480"/>
            <a:ext cx="204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16493"/>
                </a:solidFill>
                <a:latin typeface="Verdana"/>
              </a:rPr>
              <a:t>Посетители из СШ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24960" y="4805280"/>
            <a:ext cx="179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P-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адрес посети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33000" y="3578400"/>
            <a:ext cx="173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www.computerra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93600" y="35337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69696"/>
                </a:solidFill>
                <a:latin typeface="Arial"/>
              </a:rPr>
              <a:t>2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27360" y="3444840"/>
            <a:ext cx="854280" cy="527040"/>
          </a:xfrm>
          <a:prstGeom prst="ellipse">
            <a:avLst/>
          </a:prstGeom>
          <a:noFill/>
          <a:ln w="255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692480" y="35082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69696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26240" y="3419640"/>
            <a:ext cx="854280" cy="527040"/>
          </a:xfrm>
          <a:prstGeom prst="ellipse">
            <a:avLst/>
          </a:prstGeom>
          <a:noFill/>
          <a:ln w="255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155400" y="48117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69696"/>
                </a:solidFill>
                <a:latin typeface="Arial"/>
              </a:rPr>
              <a:t>1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89160" y="4722840"/>
            <a:ext cx="854280" cy="527040"/>
          </a:xfrm>
          <a:prstGeom prst="ellipse">
            <a:avLst/>
          </a:prstGeom>
          <a:noFill/>
          <a:ln w="255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065800" y="4761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69696"/>
                </a:solidFill>
                <a:latin typeface="Arial"/>
              </a:rPr>
              <a:t>3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999560" y="4672080"/>
            <a:ext cx="853920" cy="527040"/>
          </a:xfrm>
          <a:prstGeom prst="ellipse">
            <a:avLst/>
          </a:prstGeom>
          <a:noFill/>
          <a:ln w="255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53480" y="2619360"/>
            <a:ext cx="705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ика событийного анализа позволяет отказаться от статистических методов анализ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2840" y="5543640"/>
            <a:ext cx="75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 важно, сколько посетителей пришло на сайт, важно, какие действия они совершили на сай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8240" y="1168200"/>
            <a:ext cx="8881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c7ab2"/>
                </a:solidFill>
                <a:latin typeface="Verdana"/>
              </a:rPr>
              <a:t>Событийный анал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35040" y="1972080"/>
            <a:ext cx="7696080" cy="13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Анализ выделенных потоков по 4 составляющим: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татистические дан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нимание к контент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обыт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Финансовые показатели (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OI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57360" y="3673440"/>
            <a:ext cx="7010280" cy="2590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178520" y="3922560"/>
            <a:ext cx="798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Verdana"/>
              </a:rPr>
              <a:t>Статистик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13000" y="3922560"/>
            <a:ext cx="61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Verdana"/>
              </a:rPr>
              <a:t>Контен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78000" y="3922560"/>
            <a:ext cx="650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Verdana"/>
              </a:rPr>
              <a:t>События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695280" y="3917880"/>
            <a:ext cx="368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O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41760" y="4583160"/>
            <a:ext cx="1253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64f74"/>
                </a:solidFill>
                <a:latin typeface="Verdana"/>
              </a:rPr>
              <a:t>Аудитор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64f74"/>
                </a:solidFill>
                <a:latin typeface="Verdana"/>
              </a:rPr>
              <a:t>сай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78520" y="4483080"/>
            <a:ext cx="798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Verdana"/>
              </a:rPr>
              <a:t>Статистик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13000" y="4483080"/>
            <a:ext cx="61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Verdana"/>
              </a:rPr>
              <a:t>Контен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78000" y="4483080"/>
            <a:ext cx="650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Verdana"/>
              </a:rPr>
              <a:t>События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695280" y="4478400"/>
            <a:ext cx="368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O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178520" y="5029200"/>
            <a:ext cx="798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Verdana"/>
              </a:rPr>
              <a:t>Статистик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013000" y="5029200"/>
            <a:ext cx="61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Verdana"/>
              </a:rPr>
              <a:t>Контен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778000" y="5029200"/>
            <a:ext cx="650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Verdana"/>
              </a:rPr>
              <a:t>События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95280" y="5024520"/>
            <a:ext cx="368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O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178520" y="5600880"/>
            <a:ext cx="798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Verdana"/>
              </a:rPr>
              <a:t>Статистик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13000" y="5600880"/>
            <a:ext cx="61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Verdana"/>
              </a:rPr>
              <a:t>Контен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778000" y="5600880"/>
            <a:ext cx="650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Verdana"/>
              </a:rPr>
              <a:t>События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695280" y="5595840"/>
            <a:ext cx="368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O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39280" y="390996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4f74"/>
                </a:solidFill>
                <a:latin typeface="Verdana"/>
              </a:rPr>
              <a:t>2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41160" y="44686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4f74"/>
                </a:solidFill>
                <a:latin typeface="Verdana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453760" y="501480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4f74"/>
                </a:solidFill>
                <a:latin typeface="Verdana"/>
              </a:rPr>
              <a:t>19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326680" y="55738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4f74"/>
                </a:solidFill>
                <a:latin typeface="Verdana"/>
              </a:rPr>
              <a:t>3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0080" y="1165320"/>
            <a:ext cx="90439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c7ab2"/>
                </a:solidFill>
                <a:latin typeface="Verdana"/>
              </a:rPr>
              <a:t>Анализ потока посети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28240" y="2242800"/>
            <a:ext cx="7467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отчетах по потоку посетителей представлен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2548080"/>
            <a:ext cx="45720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исло переход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исло новых посетите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исло уникальных посетите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никальные хос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исло просмотренных страниц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бавление сайта в избранно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озвраты посетителей на сайт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татистика посетителей на возврата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инамика потока по дням и граф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11000" y="1738440"/>
            <a:ext cx="246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547b"/>
                </a:solidFill>
                <a:latin typeface="Verdana"/>
              </a:rPr>
              <a:t>Статистические дан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4405320"/>
            <a:ext cx="75834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алитические коэффициен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етител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ктивность и внимательн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овые посетител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озвра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202360" y="2362320"/>
            <a:ext cx="3560760" cy="2493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246640" y="4986360"/>
            <a:ext cx="106668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62000" y="2349000"/>
            <a:ext cx="4419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 выделенному потоку анализирую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72280" y="1808280"/>
            <a:ext cx="221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547b"/>
                </a:solidFill>
                <a:latin typeface="Verdana"/>
              </a:rPr>
              <a:t>Внимание к контент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2000" y="2730600"/>
            <a:ext cx="5790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286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ещенные разделы и страниц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ещаемость разделов и страниц в динамике по дня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очки входа на сайт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очки выхо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ути по сайт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трезки пу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1320" y="5859360"/>
            <a:ext cx="43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анные учитываются на прямом заходе и на возвра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100080" y="1179360"/>
            <a:ext cx="90439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c7ab2"/>
                </a:solidFill>
                <a:latin typeface="Verdana"/>
              </a:rPr>
              <a:t>Анализ потока посети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62000" y="4019400"/>
            <a:ext cx="3733560" cy="1347840"/>
          </a:xfrm>
          <a:prstGeom prst="rect">
            <a:avLst/>
          </a:prstGeom>
          <a:ln w="3240">
            <a:solidFill>
              <a:srgbClr val="5f97c9"/>
            </a:solidFill>
            <a:miter/>
          </a:ln>
        </p:spPr>
      </p:pic>
      <p:sp>
        <p:nvSpPr>
          <p:cNvPr id="110" name=""/>
          <p:cNvSpPr/>
          <p:nvPr/>
        </p:nvSpPr>
        <p:spPr>
          <a:xfrm>
            <a:off x="239040" y="5459400"/>
            <a:ext cx="182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Посещаемость раздел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5548320" y="3057480"/>
            <a:ext cx="3330720" cy="1303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5697360" y="3844800"/>
            <a:ext cx="3116520" cy="1965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809120" y="3200400"/>
            <a:ext cx="109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Путь по сайт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736760" y="5880240"/>
            <a:ext cx="116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Отрезки путе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189160" y="5815080"/>
            <a:ext cx="44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547b"/>
                </a:solidFill>
                <a:latin typeface="Verdana"/>
              </a:rPr>
              <a:t>Распределение потока посетителей по сайт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0080" y="1179360"/>
            <a:ext cx="90439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c7ab2"/>
                </a:solidFill>
                <a:latin typeface="Verdana"/>
              </a:rPr>
              <a:t>Анализ потока посети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141640" y="1955880"/>
            <a:ext cx="4500360" cy="3635280"/>
          </a:xfrm>
          <a:prstGeom prst="rect">
            <a:avLst/>
          </a:prstGeom>
          <a:ln w="3240">
            <a:solidFill>
              <a:srgbClr val="31649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0080" y="1168200"/>
            <a:ext cx="9043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c7ab2"/>
                </a:solidFill>
                <a:latin typeface="Verdana"/>
              </a:rPr>
              <a:t>Анализ событ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52280" y="2017800"/>
            <a:ext cx="8785440" cy="24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667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ханизм подсчета событий на сайте позволяет зарегистрировать любое действие (событие) посетител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-177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купка в интернет-магазин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-177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ереход по ссылке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 внешний сайт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-177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лик по баннер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-177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егистрация на сайт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-177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аполнение анке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-177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частие в опрос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-177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ообщение в форум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-177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качивание файла и другие собы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39680" y="5173560"/>
            <a:ext cx="501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bbedd"/>
                </a:solidFill>
                <a:latin typeface="Arial Black"/>
              </a:rPr>
              <a:t>События настраиваются индивидуально для каждого сай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72000" y="4599000"/>
            <a:ext cx="530388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Рекламные кампании, в результате которых посетител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зарегистрировались на семина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884760" y="2438280"/>
            <a:ext cx="5187960" cy="20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0080" y="1166760"/>
            <a:ext cx="90439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7ab2"/>
                </a:solidFill>
                <a:latin typeface="Verdana"/>
              </a:rPr>
              <a:t>ROI</a:t>
            </a:r>
            <a:r>
              <a:rPr b="0" lang="ru-RU" sz="2800" spc="-1" strike="noStrike">
                <a:solidFill>
                  <a:srgbClr val="3c7ab2"/>
                </a:solidFill>
                <a:latin typeface="Verdana"/>
              </a:rPr>
              <a:t> или</a:t>
            </a:r>
            <a:r>
              <a:rPr b="0" lang="en-US" sz="2800" spc="-1" strike="noStrike">
                <a:solidFill>
                  <a:srgbClr val="3c7ab2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3c7ab2"/>
                </a:solidFill>
                <a:latin typeface="Verdana"/>
              </a:rPr>
              <a:t>рентабельность рекламы</a:t>
            </a:r>
            <a:r>
              <a:rPr b="0" lang="en-US" sz="2800" spc="-1" strike="noStrike">
                <a:solidFill>
                  <a:srgbClr val="3c7ab2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51920" y="2209320"/>
            <a:ext cx="6172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формация о прибыли, полученной по оплаченным заказам, фиксируется в системе статистики как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доход от рекламной кампани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атраты на рекламу автоматически вычитаются, и в отчете показывается только чистый доход от рекламной кампа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эффициент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I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* рассчитывается автоматически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OI (Return on Investments)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инансовый показатель эффективности рекламной кампании, процентное соотношение прибыли и затра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78440" y="50292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bbedd"/>
                </a:solidFill>
                <a:latin typeface="Arial Black"/>
              </a:rPr>
              <a:t>Расчет </a:t>
            </a:r>
            <a:r>
              <a:rPr b="0" lang="en-US" sz="1800" spc="-1" strike="noStrike">
                <a:solidFill>
                  <a:srgbClr val="9bbedd"/>
                </a:solidFill>
                <a:latin typeface="Arial Black"/>
              </a:rPr>
              <a:t>ROI – </a:t>
            </a:r>
            <a:r>
              <a:rPr b="0" lang="ru-RU" sz="1800" spc="-1" strike="noStrike">
                <a:solidFill>
                  <a:srgbClr val="9bbedd"/>
                </a:solidFill>
                <a:latin typeface="Arial Black"/>
              </a:rPr>
              <a:t>цель анализа рекламных камп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4495680"/>
            <a:ext cx="5029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загрузке новых отчетов о продажах система выполняет перерасчет прибыли из любых валют, поэтому в отчете представлены самые актуальные данные о финансовой эффективности рекламной кампа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477120" y="2590920"/>
            <a:ext cx="2495520" cy="1152360"/>
          </a:xfrm>
          <a:prstGeom prst="rect">
            <a:avLst/>
          </a:prstGeom>
          <a:ln w="3240">
            <a:solidFill>
              <a:srgbClr val="9bbedd"/>
            </a:solidFill>
            <a:miter/>
          </a:ln>
        </p:spPr>
      </p:pic>
      <p:sp>
        <p:nvSpPr>
          <p:cNvPr id="128" name=""/>
          <p:cNvSpPr/>
          <p:nvPr/>
        </p:nvSpPr>
        <p:spPr>
          <a:xfrm>
            <a:off x="6400800" y="3162240"/>
            <a:ext cx="2590920" cy="38124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3T11:38:15Z</dcterms:created>
  <dc:creator>Natalia Grikhina</dc:creator>
  <dc:description/>
  <dc:language>en-US</dc:language>
  <cp:lastModifiedBy>Sergey Rizhikov</cp:lastModifiedBy>
  <dcterms:modified xsi:type="dcterms:W3CDTF">2006-03-16T07:26:06Z</dcterms:modified>
  <cp:revision>20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